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6577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CEC-FD5E-4D89-B2DC-2D8C7F09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B0F-4847-44C4-B6C2-2C4F0AE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F7C2-20DB-4259-AD04-3B99504B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19C-143A-4E0D-B039-3B8AF415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FEA-253A-4DE6-979C-F39748F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E1D2-036D-4FD1-9CE8-7A3E91F4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058-269A-4802-8AEA-12393930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55AE-37F6-4BDA-96DC-77048C2B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8A5-6009-48C3-A7E1-BEA3D5D8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E5B-2141-4219-9059-A7630805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641B-22A3-462A-8885-7D9678FD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FCF-F557-41E9-AB47-0DDE295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748-BF45-4D74-B2B0-65180E4DC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476280"/>
          <a:ext cx="4249800" cy="5924520"/>
        </p:xfrm>
        <a:graphic>
          <a:graphicData uri="http://schemas.openxmlformats.org/drawingml/2006/table">
            <a:tbl>
              <a:tblPr/>
              <a:tblGrid>
                <a:gridCol w="936360"/>
                <a:gridCol w="1368720"/>
                <a:gridCol w="194472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g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f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p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nt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onte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tri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ri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jo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jo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imp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imp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e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i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od loo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gua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ua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a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a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s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ntipá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tip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l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4932360" y="549360"/>
            <a:ext cx="396072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Es 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/ She is 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¿Es ____________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he/ she _____________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No es 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e/She isn’t ______________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pero    = b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y        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1:39:43Z</dcterms:created>
  <dc:creator>Helen</dc:creator>
  <dc:description/>
  <dc:language>en-US</dc:language>
  <cp:lastModifiedBy>Katy Oliver</cp:lastModifiedBy>
  <dcterms:modified xsi:type="dcterms:W3CDTF">2011-07-06T13:25:22Z</dcterms:modified>
  <cp:revision>3</cp:revision>
  <dc:subject/>
  <dc:title>Slide 1</dc:title>
</cp:coreProperties>
</file>